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EEE-8112-49A1-8B4A-2A2C3E8F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487-1279-455E-B8C1-9D86D14B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FB9-DC86-463E-B45F-39C70ED5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DF6-BA36-4DC0-BC4B-37186334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AB8-7018-4864-AE80-CA44143B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DD7-52E4-4BC2-B1F7-C02EF0D2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EFF-7F98-4725-BC18-5ACEB692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2EF-AEB0-47B8-B7FB-90DD0698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BBB-1164-4EE8-BA79-FD4C597A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895-8DC4-421C-AB33-AF9309D1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316-E1CB-4FFD-B47F-A6D978BE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FBB-2BC6-4FEC-89A0-1CB42BE8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5CEE-D156-43CC-926C-8DEF081EC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705720" y="35812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t1.gstatic.com/images?q=tbn:ANd9GcTBuAq0BNgcIVnhuMi6208a1Rris_MAGt6UJzB-gI1fJxpgbvLp"/>
          <p:cNvPicPr/>
          <p:nvPr/>
        </p:nvPicPr>
        <p:blipFill>
          <a:blip r:embed="rId2"/>
          <a:stretch/>
        </p:blipFill>
        <p:spPr>
          <a:xfrm>
            <a:off x="304920" y="2209680"/>
            <a:ext cx="568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1981080" y="99072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a mountain and a mountain rang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5" descr="C:\Documents and Settings\ISLPT176\Local Settings\Temporary Internet Files\Content.IE5\126TERN3\MP900442738[1].jpg"/>
          <p:cNvPicPr/>
          <p:nvPr/>
        </p:nvPicPr>
        <p:blipFill>
          <a:blip r:embed="rId2"/>
          <a:stretch/>
        </p:blipFill>
        <p:spPr>
          <a:xfrm>
            <a:off x="4114800" y="3200400"/>
            <a:ext cx="502920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C:\Documents and Settings\ISLPT176\Local Settings\Temporary Internet Files\Content.IE5\V0AM5HMX\MP900438961[1].jpg"/>
          <p:cNvPicPr/>
          <p:nvPr/>
        </p:nvPicPr>
        <p:blipFill>
          <a:blip r:embed="rId3"/>
          <a:stretch/>
        </p:blipFill>
        <p:spPr>
          <a:xfrm>
            <a:off x="0" y="3200400"/>
            <a:ext cx="411480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9"/>
          <p:cNvSpPr/>
          <p:nvPr/>
        </p:nvSpPr>
        <p:spPr>
          <a:xfrm>
            <a:off x="533520" y="23623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t. range is a lot o mountains and a mountain is only 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 mountain and a volc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olcano shoots out lava and ash while Mountain does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C:\Documents and Settings\ISLPT176\Local Settings\Temporary Internet Files\Content.IE5\95TOO2WQ\MC900282924[1].wmf"/>
          <p:cNvPicPr/>
          <p:nvPr/>
        </p:nvPicPr>
        <p:blipFill>
          <a:blip r:embed="rId1"/>
          <a:stretch/>
        </p:blipFill>
        <p:spPr>
          <a:xfrm>
            <a:off x="0" y="2895480"/>
            <a:ext cx="4648320" cy="396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Documents and Settings\ISLPT176\Local Settings\Temporary Internet Files\Content.IE5\126TERN3\MP900447453[1].jpg"/>
          <p:cNvPicPr/>
          <p:nvPr/>
        </p:nvPicPr>
        <p:blipFill>
          <a:blip r:embed="rId2"/>
          <a:stretch/>
        </p:blipFill>
        <p:spPr>
          <a:xfrm>
            <a:off x="4648320" y="2895480"/>
            <a:ext cx="4495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6854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 butte, mesa , and platea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au is the biggest and the butte is the smallest. Mesa is in the mid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rapezoid 4"/>
          <p:cNvSpPr/>
          <p:nvPr/>
        </p:nvSpPr>
        <p:spPr>
          <a:xfrm>
            <a:off x="0" y="2819520"/>
            <a:ext cx="3657600" cy="4038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rapezoid 5"/>
          <p:cNvSpPr/>
          <p:nvPr/>
        </p:nvSpPr>
        <p:spPr>
          <a:xfrm>
            <a:off x="3733920" y="3886200"/>
            <a:ext cx="2819160" cy="297180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rapezoid 6"/>
          <p:cNvSpPr/>
          <p:nvPr/>
        </p:nvSpPr>
        <p:spPr>
          <a:xfrm>
            <a:off x="7086600" y="4952880"/>
            <a:ext cx="2057400" cy="1905120"/>
          </a:xfrm>
          <a:prstGeom prst="pie">
            <a:avLst/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14300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495680" y="4952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7696080" y="5867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area of flat or nearly flat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76320" y="-565200"/>
            <a:ext cx="1542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76320" y="-565200"/>
            <a:ext cx="1542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76320" y="-565200"/>
            <a:ext cx="1542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" descr="http://t3.gstatic.com/images?q=tbn:ANd9GcTqPmXzyarLhj8UonXS-gF8SpaHX4kru0raSAWRPWsHYi-X5CtWvw"/>
          <p:cNvPicPr/>
          <p:nvPr/>
        </p:nvPicPr>
        <p:blipFill>
          <a:blip r:embed="rId2"/>
          <a:stretch/>
        </p:blipFill>
        <p:spPr>
          <a:xfrm>
            <a:off x="685800" y="2743200"/>
            <a:ext cx="525780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7086600" y="29718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projecting part of  a coastline that extends into an ocean, sea, gulf, bay, or la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629400" y="2362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http://t2.gstatic.com/images?q=tbn:ANd9GcQepSV1JHk9IXVdSpwY-GF-N80cJWqVGHiijdIdCDhq5Tdr7Pjx2jXz8Ej7"/>
          <p:cNvPicPr/>
          <p:nvPr/>
        </p:nvPicPr>
        <p:blipFill>
          <a:blip r:embed="rId1"/>
          <a:stretch/>
        </p:blipFill>
        <p:spPr>
          <a:xfrm>
            <a:off x="609480" y="2438280"/>
            <a:ext cx="4659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lace where the river begi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705720" y="350532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http://t0.gstatic.com/images?q=tbn:ANd9GcRMJde4KSzu-HkZQoP9WEXX3fw0xUSmDIwosXmf9U04YtfGai295Yd3y6jc_A"/>
          <p:cNvPicPr/>
          <p:nvPr/>
        </p:nvPicPr>
        <p:blipFill>
          <a:blip r:embed="rId1"/>
          <a:stretch/>
        </p:blipFill>
        <p:spPr>
          <a:xfrm>
            <a:off x="1447920" y="2362320"/>
            <a:ext cx="4419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What is an opening in the earth through which lava, rock, gases, and ash are forced 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c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http://t0.gstatic.com/images?q=tbn:ANd9GcSozFZNAtyQWIX_6ho7uBprvm5SeBaXP4Ri2t98xHhPz2phnbs2yQ"/>
          <p:cNvPicPr/>
          <p:nvPr/>
        </p:nvPicPr>
        <p:blipFill>
          <a:blip r:embed="rId1"/>
          <a:stretch/>
        </p:blipFill>
        <p:spPr>
          <a:xfrm>
            <a:off x="0" y="2743200"/>
            <a:ext cx="5029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high, flat landform that rises steeply above the surrounding la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705720" y="350532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http://t1.gstatic.com/images?q=tbn:ANd9GcTUkgRq4iiyfVKF6bRyYJ2WG27MZLuLXQ2EGazg1fA9To-rL0Xr"/>
          <p:cNvPicPr/>
          <p:nvPr/>
        </p:nvPicPr>
        <p:blipFill>
          <a:blip r:embed="rId1"/>
          <a:stretch/>
        </p:blipFill>
        <p:spPr>
          <a:xfrm>
            <a:off x="0" y="2362320"/>
            <a:ext cx="5257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Flat, low-lying land built up from soil carried downstream by a river and deposited at its mout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t3.gstatic.com/images?q=tbn:ANd9GcRo49lyhOUl2_Chi77YY9QGo_3iWYXVf5wFEpeNo7Q9qu0CW8GA"/>
          <p:cNvPicPr/>
          <p:nvPr/>
        </p:nvPicPr>
        <p:blipFill>
          <a:blip r:embed="rId1"/>
          <a:stretch/>
        </p:blipFill>
        <p:spPr>
          <a:xfrm>
            <a:off x="457200" y="2362320"/>
            <a:ext cx="4952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huge sheet of ice that moves slowly across the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http://t2.gstatic.com/images?q=tbn:ANd9GcQkNdN2wdplryzvDiFJPLIFdphq8zDnghZr_VMJ1kvXaDFFRECVUhhkbcxm"/>
          <p:cNvPicPr/>
          <p:nvPr/>
        </p:nvPicPr>
        <p:blipFill>
          <a:blip r:embed="rId2"/>
          <a:stretch/>
        </p:blipFill>
        <p:spPr>
          <a:xfrm>
            <a:off x="0" y="3657600"/>
            <a:ext cx="4419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very dry area where few plants gr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http://t3.gstatic.com/images?q=tbn:ANd9GcSG9k4HordzCMmHHOgtQCwPBaJ3gx0T-9GHvbqRlONH3eI7OI5AvQ"/>
          <p:cNvPicPr/>
          <p:nvPr/>
        </p:nvPicPr>
        <p:blipFill>
          <a:blip r:embed="rId1"/>
          <a:stretch/>
        </p:blipFill>
        <p:spPr>
          <a:xfrm>
            <a:off x="0" y="2590920"/>
            <a:ext cx="5867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10-03T15:39:16Z</dcterms:modified>
  <cp:revision>44</cp:revision>
  <dc:subject/>
  <dc:title>PowerPoint Presentation</dc:title>
</cp:coreProperties>
</file>